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4E08-C215-4978-B635-D3B124E8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DC73-360B-4D26-A0C6-92F2B9AB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79D2-B132-43B7-8059-A772BDEA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3DDF-1B78-4337-987D-F4927E2D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CAB5-278B-451B-B2B9-BC508A4F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9279-94CF-4194-A85C-EA53F1AA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AE1B-BBE1-4C2B-976E-41B8FFC2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0A60-68B5-4BA1-B9B3-C66E68EC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A4D0-4A48-4746-9298-584B1D83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A634-37BC-402E-BCA9-9CFCABFD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4B6F-854F-4C82-BD24-14328CEB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5C1B-9D21-425A-9133-613D5D48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0B10-C8E9-4B35-BC9D-914F92BAD2D2}" type="slidenum"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na.inep.gov.br/ANA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ortal.mec.gov.br/arquivos/pdf/ldb.pdf" TargetMode="External"/><Relationship Id="rId2" Type="http://schemas.openxmlformats.org/officeDocument/2006/relationships/hyperlink" Target="http://ana.inep.gov.br/ANA/" TargetMode="External"/><Relationship Id="rId3" Type="http://schemas.openxmlformats.org/officeDocument/2006/relationships/hyperlink" Target="https://www.youtube.com/watch?v=9Qhg_vrH39U&amp;feature=youtu.be" TargetMode="External"/><Relationship Id="rId4" Type="http://schemas.openxmlformats.org/officeDocument/2006/relationships/hyperlink" Target="http://download.inep.gov.br/educacao_basica/saeb/2013/livreto_ANA_online.pdf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rredondar Retângulo em um Canto Diagonal 5"/>
          <p:cNvSpPr/>
          <p:nvPr/>
        </p:nvSpPr>
        <p:spPr>
          <a:xfrm>
            <a:off x="1116000" y="793800"/>
            <a:ext cx="6840720" cy="4651200"/>
          </a:xfrm>
          <a:custGeom>
            <a:avLst/>
            <a:gdLst/>
            <a:ahLst/>
            <a:rect l="l" t="t" r="r" b="b"/>
            <a:pathLst>
              <a:path w="6840537" h="4651375">
                <a:moveTo>
                  <a:pt x="775245" y="0"/>
                </a:moveTo>
                <a:lnTo>
                  <a:pt x="6840537" y="0"/>
                </a:lnTo>
                <a:lnTo>
                  <a:pt x="6840537" y="0"/>
                </a:lnTo>
                <a:lnTo>
                  <a:pt x="6840537" y="3876130"/>
                </a:lnTo>
                <a:cubicBezTo>
                  <a:pt x="6840537" y="4304286"/>
                  <a:pt x="6493448" y="4651375"/>
                  <a:pt x="6065292" y="4651375"/>
                </a:cubicBezTo>
                <a:lnTo>
                  <a:pt x="0" y="4651375"/>
                </a:lnTo>
                <a:lnTo>
                  <a:pt x="0" y="4651375"/>
                </a:lnTo>
                <a:lnTo>
                  <a:pt x="0" y="775245"/>
                </a:lnTo>
                <a:cubicBezTo>
                  <a:pt x="0" y="347089"/>
                  <a:pt x="347089" y="0"/>
                  <a:pt x="775245" y="0"/>
                </a:cubicBezTo>
                <a:close/>
              </a:path>
            </a:pathLst>
          </a:custGeom>
          <a:solidFill>
            <a:srgbClr val="a9a57c"/>
          </a:solidFill>
          <a:ln w="25560">
            <a:solidFill>
              <a:srgbClr val="7b78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4" name="Retângulo 4"/>
          <p:cNvSpPr/>
          <p:nvPr/>
        </p:nvSpPr>
        <p:spPr>
          <a:xfrm>
            <a:off x="217440" y="1989000"/>
            <a:ext cx="824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5" name="Retângulo 3"/>
          <p:cNvSpPr/>
          <p:nvPr/>
        </p:nvSpPr>
        <p:spPr>
          <a:xfrm>
            <a:off x="1498680" y="1536840"/>
            <a:ext cx="61196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2f2b20"/>
                </a:solidFill>
                <a:latin typeface="Times New Roman"/>
              </a:rPr>
              <a:t>A Avaliação Nacional da Alfabetização e suas (des)articulações com o processo de ensino e aprendizagem da Matemática escolar</a:t>
            </a:r>
            <a:endParaRPr b="0" lang="en-US" sz="36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f2b2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75e47"/>
                </a:solidFill>
                <a:latin typeface="Cambria"/>
              </a:rPr>
              <a:t>ESCALA DE PROFICIÊNCIA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0920" y="2133720"/>
            <a:ext cx="756108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f2b20"/>
                </a:solidFill>
                <a:latin typeface="Calibri"/>
              </a:rPr>
              <a:t>ACESSAR O VÍDE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INTERPRETAÇÃO DOS RESULTADOS DO AN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Link:</a:t>
            </a:r>
            <a:r>
              <a:rPr b="0" lang="pt-BR" sz="2200" spc="-1" strike="noStrike" u="sng">
                <a:solidFill>
                  <a:srgbClr val="2f2b20"/>
                </a:solidFill>
                <a:uFillTx/>
                <a:latin typeface="Calibri"/>
              </a:rPr>
              <a:t>https://www.youtube.com/watch?v=9Qhg_vrH39U&amp;feature=youtu.b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75e47"/>
                </a:solidFill>
                <a:latin typeface="Cambria"/>
              </a:rPr>
              <a:t>ESCALA DE PROFICIÊNCIA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1483920"/>
            <a:ext cx="7488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spcBef>
                <a:spcPts val="18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2b20"/>
                </a:solidFill>
                <a:latin typeface="Calibri"/>
              </a:rPr>
              <a:t>Proficiência: capacidade para realizar algo, dominar certo assuntou e ter aptidão em determinada área do conhecimento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18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2b20"/>
                </a:solidFill>
                <a:latin typeface="Calibri"/>
              </a:rPr>
              <a:t>Escala de proficiência: espécie de régua, no qual as habilidades dos estudantes são agrupadas por níveis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18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2b20"/>
                </a:solidFill>
                <a:latin typeface="Calibri"/>
              </a:rPr>
              <a:t>A escala da ANA é progressiva e cumulativa, da menor para a maior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675e47"/>
                </a:solidFill>
                <a:latin typeface="Cambria"/>
              </a:rPr>
              <a:t>Resultados ANA</a:t>
            </a:r>
            <a:br>
              <a:rPr sz="4600"/>
            </a:br>
            <a:r>
              <a:rPr b="1" lang="pt-BR" sz="1600" spc="-1" strike="noStrike">
                <a:solidFill>
                  <a:srgbClr val="2f2b20"/>
                </a:solidFill>
                <a:latin typeface="Cambria"/>
              </a:rPr>
              <a:t>Link: </a:t>
            </a:r>
            <a:r>
              <a:rPr b="0" lang="pt-BR" sz="1600" spc="-1" strike="noStrike" u="sng">
                <a:solidFill>
                  <a:srgbClr val="d25814"/>
                </a:solidFill>
                <a:uFillTx/>
                <a:latin typeface="Cambria"/>
                <a:hlinkClick r:id="rId1"/>
              </a:rPr>
              <a:t>http://ana.inep.gov.br/ANA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7720" y="1988640"/>
            <a:ext cx="8229600" cy="27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f2b20"/>
                </a:solidFill>
                <a:latin typeface="Calibri"/>
              </a:rPr>
              <a:t>Nível 1: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Baixa exigência de leitu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Texto base simpl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Suporte predominantemente em imag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Enunciado curt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Forte presença de objetos de uso no cotidian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71640" y="4365720"/>
          <a:ext cx="6337080" cy="1854000"/>
        </p:xfrm>
        <a:graphic>
          <a:graphicData uri="http://schemas.openxmlformats.org/drawingml/2006/table">
            <a:tbl>
              <a:tblPr/>
              <a:tblGrid>
                <a:gridCol w="1525320"/>
                <a:gridCol w="1203480"/>
                <a:gridCol w="1203480"/>
                <a:gridCol w="1203120"/>
                <a:gridCol w="1201680"/>
              </a:tblGrid>
              <a:tr h="50940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Nível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SP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AND.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SP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AND</a:t>
                      </a: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Nível 1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12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6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10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9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tângulo 5"/>
          <p:cNvSpPr/>
          <p:nvPr/>
        </p:nvSpPr>
        <p:spPr>
          <a:xfrm>
            <a:off x="468360" y="2133720"/>
            <a:ext cx="784872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Ler horas e minutos em relógio digital; medida em instrumento (termômetro, régua) com valor procurado explícito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Associar figura geométrica espacial ou plana a imagem de um objeto; contagem de até 20 objetos dispostos em forma organizada ou desorganizada à sua representação por algarismos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Reconhecer planificação de figura geométrica espacial (paralelepípedo)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Identificar maior frequência em gráfico de colunas, ordenadas da maior para a menor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5. Comparar comprimento de imagens de objetos; quantidades pela contagem, identificando a maior quantidade, em grupos de até 20 objetos organizados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4" name="Retângulo 6"/>
          <p:cNvSpPr/>
          <p:nvPr/>
        </p:nvSpPr>
        <p:spPr>
          <a:xfrm>
            <a:off x="1403280" y="765000"/>
            <a:ext cx="4572000" cy="485280"/>
          </a:xfrm>
          <a:prstGeom prst="rect">
            <a:avLst/>
          </a:prstGeom>
          <a:noFill/>
          <a:ln w="28440">
            <a:solidFill>
              <a:srgbClr val="8e79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2b20"/>
                </a:solidFill>
                <a:latin typeface="Calibri"/>
                <a:ea typeface="Calibri"/>
              </a:rPr>
              <a:t>NÍVEL 1 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  <a:ea typeface="Calibri"/>
              </a:rPr>
              <a:t> </a:t>
            </a:r>
            <a:r>
              <a:rPr b="1" lang="pt-BR" sz="2400" spc="-1" strike="noStrike">
                <a:solidFill>
                  <a:srgbClr val="2f2b20"/>
                </a:solidFill>
                <a:latin typeface="Calibri"/>
                <a:ea typeface="Calibri"/>
              </a:rPr>
              <a:t>(até 425 pontos)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42920"/>
            <a:ext cx="82296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mbria"/>
              </a:rPr>
              <a:t>Fonte: https://www.youtube.com/watch?v=9Qhg_vrH39U&amp;feature=youtu.be</a:t>
            </a:r>
            <a:endParaRPr b="0" lang="en-US" sz="18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155600" y="1285920"/>
            <a:ext cx="6845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836640"/>
            <a:ext cx="792180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f2b20"/>
                </a:solidFill>
                <a:latin typeface="Calibri"/>
              </a:rPr>
              <a:t>Nível 2: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Começam a aparecer os cálculo de adição e subtração e problemas envolvendo essas operações, porém com números pequenos de 2 ou 3 algarismo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Texto base simpl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Suporte em imag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Não há reagrupamento quanto a adição e subtraçã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5640" y="3949560"/>
          <a:ext cx="6337440" cy="1855800"/>
        </p:xfrm>
        <a:graphic>
          <a:graphicData uri="http://schemas.openxmlformats.org/drawingml/2006/table">
            <a:tbl>
              <a:tblPr/>
              <a:tblGrid>
                <a:gridCol w="1525680"/>
                <a:gridCol w="1203120"/>
                <a:gridCol w="1203480"/>
                <a:gridCol w="1203120"/>
                <a:gridCol w="1202040"/>
              </a:tblGrid>
              <a:tr h="51120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Nível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SP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AND.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SP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AND</a:t>
                      </a: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Nível 2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28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28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25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22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tângulo 17"/>
          <p:cNvSpPr/>
          <p:nvPr/>
        </p:nvSpPr>
        <p:spPr>
          <a:xfrm>
            <a:off x="1403280" y="765000"/>
            <a:ext cx="5977080" cy="460440"/>
          </a:xfrm>
          <a:prstGeom prst="rect">
            <a:avLst/>
          </a:prstGeom>
          <a:noFill/>
          <a:ln w="28440">
            <a:solidFill>
              <a:srgbClr val="8e79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0" name="Retângulo 6"/>
          <p:cNvSpPr/>
          <p:nvPr/>
        </p:nvSpPr>
        <p:spPr>
          <a:xfrm>
            <a:off x="1619280" y="7650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2b20"/>
                </a:solidFill>
                <a:latin typeface="Calibri"/>
                <a:ea typeface="Calibri"/>
              </a:rPr>
              <a:t>NÍVEL 2 (maior que 425 até 525 pontos)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1" name="Retângulo 7"/>
          <p:cNvSpPr/>
          <p:nvPr/>
        </p:nvSpPr>
        <p:spPr>
          <a:xfrm>
            <a:off x="344520" y="1773360"/>
            <a:ext cx="7416720" cy="43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Além das habilidades descritas nos níveis anteriores, os estudantes provavelmente são capazes de: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Ler medida em instrumento (balança analógica) identificando o intervalo em que se encontra a medida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Associar a escrita por extenso de números naturais com até três ordens à sua representação por algarismos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Reconhecer figura geométrica plana a partir de sua nomenclatura; valor monetário de cédulas ou de agrupamento de cédulas e moedas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Identificar registro de tempo em calendário; uma figura geométrica plana em uma composição com várias outras; identificar frequência associada a uma categoria em gráfico de colunas ou de barras; identificar frequência associada a uma categoria em tabela simples ou de dupla entrada (com o máximo de 3 linhas e 4 colunas, ou 4 linhas e 3 colunas)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4"/>
          <p:cNvSpPr/>
          <p:nvPr/>
        </p:nvSpPr>
        <p:spPr>
          <a:xfrm>
            <a:off x="395280" y="1197000"/>
            <a:ext cx="756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2f2b2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Times New Roman"/>
              </a:rPr>
              <a:t>Comparar quantidades pela contagem, identificando a maior quantidade, em grupos de até 20 objetos desorganizados; quantidades pela contagem, identificando quantidades iguais; números naturais não ordenados com até três algarismos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marL="457200" indent="-457200">
              <a:buClr>
                <a:srgbClr val="2f2b2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marL="457200" indent="-457200">
              <a:buClr>
                <a:srgbClr val="2f2b2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Times New Roman"/>
              </a:rPr>
              <a:t>Completar sequências numéricas crescentes de números naturais, de 2 em 2, de 5 em 5 ou de 10 em 10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marL="457200" indent="-457200">
              <a:buClr>
                <a:srgbClr val="2f2b2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marL="457200" indent="-457200">
              <a:buClr>
                <a:srgbClr val="2f2b2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Times New Roman"/>
              </a:rPr>
              <a:t>Compor número de dois algarismos a partir de suas ordens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marL="457200" indent="-457200">
              <a:buClr>
                <a:srgbClr val="2f2b2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marL="457200" indent="-457200">
              <a:buClr>
                <a:srgbClr val="2f2b2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Times New Roman"/>
              </a:rPr>
              <a:t>Calcular adição (até 3 algarismos) ou subtração (até 2 algarismos) sem reagrupamento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marL="457200" indent="-457200">
              <a:buClr>
                <a:srgbClr val="2f2b2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Times New Roman"/>
              </a:rPr>
              <a:t>9.</a:t>
            </a:r>
            <a:r>
              <a:rPr b="0" lang="pt-BR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2f2b20"/>
                </a:solidFill>
                <a:latin typeface="Times New Roman"/>
              </a:rPr>
              <a:t>Resolver problema com as ideias de acrescentar, retirar ou completar com números até 20; problema com a ideia de metade, com dividendo até 10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mbria"/>
              </a:rPr>
              <a:t>Fonte: https://www.youtube.com/watch?v=9Qhg_vrH39U&amp;feature=youtu.be</a:t>
            </a:r>
            <a:endParaRPr b="0" lang="en-US" sz="20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25640" y="1428840"/>
            <a:ext cx="62830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764640"/>
            <a:ext cx="7724880" cy="30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f2b20"/>
                </a:solidFill>
                <a:latin typeface="Calibri"/>
              </a:rPr>
              <a:t>Nível 3: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Problemas e cálculos mais complexos com aumento na magnitude dos número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São necessários procedimentos para chegar aos resultado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Observação das estruturas gerais de gráficos, dos reagrupamento nas operações, da quantidade de informações nas tabelas e maior complexidade nos problemas envolvendo as operações;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3865680"/>
          <a:ext cx="6337440" cy="1939680"/>
        </p:xfrm>
        <a:graphic>
          <a:graphicData uri="http://schemas.openxmlformats.org/drawingml/2006/table">
            <a:tbl>
              <a:tblPr/>
              <a:tblGrid>
                <a:gridCol w="1525680"/>
                <a:gridCol w="1203120"/>
                <a:gridCol w="1203480"/>
                <a:gridCol w="1203120"/>
                <a:gridCol w="1202040"/>
              </a:tblGrid>
              <a:tr h="53316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Nível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SP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AND.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SP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AND</a:t>
                      </a: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Nível 3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21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21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21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675e47"/>
                </a:solidFill>
                <a:latin typeface="Cambria"/>
              </a:rPr>
              <a:t>OBJETIVOS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7080" y="1442520"/>
            <a:ext cx="8572680" cy="10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O objetivo da formação em Matemática é discutir a Avaliação Nacional da Alfabetização – ANA – nas seguintes dimensõ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Retângulo 4"/>
          <p:cNvSpPr/>
          <p:nvPr/>
        </p:nvSpPr>
        <p:spPr>
          <a:xfrm>
            <a:off x="217440" y="1989000"/>
            <a:ext cx="824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9" name="Espaço Reservado para Conteúdo 1"/>
          <p:cNvSpPr/>
          <p:nvPr/>
        </p:nvSpPr>
        <p:spPr>
          <a:xfrm>
            <a:off x="214200" y="2692440"/>
            <a:ext cx="857268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Matriz de referência 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Escala de proficiência 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Identificação das dificuldades dos alunos em cada nível da ANA,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Proposição de ações pedagógicas para a superação das dificuldades dos alunos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Estabelecimento de metas a curto, médio e longo prazo  para  reverter os índices de rendimento dos alunos em matemática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tângulo 3"/>
          <p:cNvSpPr/>
          <p:nvPr/>
        </p:nvSpPr>
        <p:spPr>
          <a:xfrm>
            <a:off x="1736640" y="353880"/>
            <a:ext cx="53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2b20"/>
                </a:solidFill>
                <a:latin typeface="Calibri"/>
                <a:ea typeface="Calibri"/>
              </a:rPr>
              <a:t>NÍVEL 3 (maior que 525 até 575 pontos)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8" name="Retângulo 5"/>
          <p:cNvSpPr/>
          <p:nvPr/>
        </p:nvSpPr>
        <p:spPr>
          <a:xfrm>
            <a:off x="1332000" y="369720"/>
            <a:ext cx="5976720" cy="460440"/>
          </a:xfrm>
          <a:prstGeom prst="rect">
            <a:avLst/>
          </a:prstGeom>
          <a:noFill/>
          <a:ln w="28440">
            <a:solidFill>
              <a:srgbClr val="8e79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9" name="Retângulo 4"/>
          <p:cNvSpPr/>
          <p:nvPr/>
        </p:nvSpPr>
        <p:spPr>
          <a:xfrm>
            <a:off x="539640" y="981000"/>
            <a:ext cx="756144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Além das habilidades descritas no nível anterior, o estudante provavelmente é capaz de: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Associar um agrupamento de cédulas e/ou moedas, com apoio de imagem ou dado por meio de um texto, a outro com mesmo valor monetário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Identificar frequências iguais em gráfico de colunas; identificar gráfico que representa um conjunto de informações dadas em um texto; identificar frequência associada a uma categoria em tabela de dupla entrada (com mais de 4 colunas, ou mais de 4 linhas)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Completar sequência numérica decrescente de números naturais não consecutivos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Calcular adição de duas parcelas de até 03 algarismos com apenas um reagrupamento (na unidade ou na dezena); subtração sem reagrupamento envolvendo pelo menos um valor com 3 algarismos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Resolver problema, com números naturais maiores do que 20, com a ideia de retirar; problema de divisão com ideia de repartir em partes iguais, com apoio de imagem, envolvendo algarismos até 20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mbria"/>
              </a:rPr>
              <a:t>Fonte: https://www.youtube.com/watch?v=9Qhg_vrH39U&amp;feature=youtu.be</a:t>
            </a:r>
            <a:endParaRPr b="0" lang="en-US" sz="20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357200"/>
            <a:ext cx="66326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94920" y="549360"/>
            <a:ext cx="7921800" cy="27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f2b20"/>
                </a:solidFill>
                <a:latin typeface="Calibri"/>
              </a:rPr>
              <a:t>Nível 4: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a9a57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Problemas mais complexos, envolvendo as quatro operações de até 3 algarismos; a subtração como inverso da adição, multiplicação com ideias de proporcionalidade e de combinação, divisão como ideias de medida e de proporcionalidade; adições e subtrações com reagrupamento; leitura de relógios analógicos, composição e decomposição aditivas não canônic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a9a57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Sem suporte de image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a9a57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55640" y="3849840"/>
          <a:ext cx="6337440" cy="1938240"/>
        </p:xfrm>
        <a:graphic>
          <a:graphicData uri="http://schemas.openxmlformats.org/drawingml/2006/table">
            <a:tbl>
              <a:tblPr/>
              <a:tblGrid>
                <a:gridCol w="1525680"/>
                <a:gridCol w="1203120"/>
                <a:gridCol w="1203480"/>
                <a:gridCol w="1203120"/>
                <a:gridCol w="1202040"/>
              </a:tblGrid>
              <a:tr h="53316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Nível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SP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AND.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SP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AND</a:t>
                      </a: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Nível 4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39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46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-Bold"/>
                          <a:ea typeface="Calibri"/>
                        </a:rPr>
                        <a:t>44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20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tângulo 3"/>
          <p:cNvSpPr/>
          <p:nvPr/>
        </p:nvSpPr>
        <p:spPr>
          <a:xfrm>
            <a:off x="1996920" y="40464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2b20"/>
                </a:solidFill>
                <a:latin typeface="Calibri"/>
                <a:ea typeface="Calibri"/>
              </a:rPr>
              <a:t>NÍVEL 4 (maior que 575 pontos)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5" name="Retângulo 9"/>
          <p:cNvSpPr/>
          <p:nvPr/>
        </p:nvSpPr>
        <p:spPr>
          <a:xfrm>
            <a:off x="1332000" y="369720"/>
            <a:ext cx="5976720" cy="460440"/>
          </a:xfrm>
          <a:prstGeom prst="rect">
            <a:avLst/>
          </a:prstGeom>
          <a:noFill/>
          <a:ln w="28440">
            <a:solidFill>
              <a:srgbClr val="8e79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6" name="Retângulo 4"/>
          <p:cNvSpPr/>
          <p:nvPr/>
        </p:nvSpPr>
        <p:spPr>
          <a:xfrm>
            <a:off x="647640" y="1484280"/>
            <a:ext cx="7345440" cy="43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Além das habilidades descritas no nível anterior, o estudante provavelmente é capaz de: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Ler medida em instrumento (termômetro) com valor procurado não explícito; horas e minutos em relógios analógicos, identificando marcações de 10, 30 e 45 minutos, além de horas exatas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Reconhecer decomposição canônica (mais usual) de números naturais com três algarismos; composição ou decomposição não canônica (pouco usual) aditiva de números naturais com até três algarismos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Identificar uma categoria associada a uma frequência específica em gráfico de barra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f2b20"/>
                </a:solidFill>
                <a:latin typeface="Calibri"/>
                <a:ea typeface="Times New Roman"/>
              </a:rPr>
              <a:t>Calcular adição de duas parcelas de até 03 algarismos com mais de um reagrupamento (na unidade e na dezena); subtração de números naturais com até três algarismos com reagrupamento.</a:t>
            </a: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tângulo 1"/>
          <p:cNvSpPr/>
          <p:nvPr/>
        </p:nvSpPr>
        <p:spPr>
          <a:xfrm>
            <a:off x="826920" y="1197000"/>
            <a:ext cx="7201080" cy="36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Calibri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  <a:ea typeface="Times New Roman"/>
              </a:rPr>
              <a:t>5. Resolver problema, com números naturais de até três algarismos, com as   ideias de comparar, não envolvendo reagrupamento; com números naturais de até três algarismos, com as ideias de comparar ou completar, envolvendo reagrupamento; de subtração como operação inversa da adição¸ com números naturais; de multiplicação com a ideia de adição de parcelas iguais, de dobro ou triplo, de combinação ou com a ideia de proporcionalidade, envolvendo fatores de 1 algarismo ou fatores de 1 e 2 algarismos; de divisão com ideia de repartir em partes iguais, de medida ou de proporcionalidade (terça e quarta parte), sem apoio de imagem, envolvendo números de até 2 algarismos.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mbria"/>
              </a:rPr>
              <a:t>Fonte: https://www.youtube.com/watch?v=9Qhg_vrH39U&amp;feature=youtu.be</a:t>
            </a:r>
            <a:endParaRPr b="0" lang="en-US" sz="20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258920" y="1428840"/>
            <a:ext cx="66009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00120" y="213840"/>
            <a:ext cx="733896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75e47"/>
                </a:solidFill>
                <a:latin typeface="Cambria"/>
                <a:ea typeface="Times New Roman"/>
              </a:rPr>
              <a:t>Referências Bibliográficas</a:t>
            </a:r>
            <a:r>
              <a:rPr b="0" lang="pt-BR" sz="40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2491920"/>
            <a:ext cx="8534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BRASIL, Ministério da Educação. </a:t>
            </a:r>
            <a:r>
              <a:rPr b="1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Lei de Diretrizes e Bases da Educação Nacional – Lei 9.394/96. </a:t>
            </a:r>
            <a:r>
              <a:rPr b="0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Disponível em </a:t>
            </a:r>
            <a:r>
              <a:rPr b="0" lang="pt-BR" sz="1600" spc="-1" strike="noStrike" u="sng">
                <a:solidFill>
                  <a:srgbClr val="d25814"/>
                </a:solidFill>
                <a:uFillTx/>
                <a:latin typeface="Calibri"/>
                <a:ea typeface="Times New Roman"/>
                <a:hlinkClick r:id="rId1"/>
              </a:rPr>
              <a:t>http://portal.mec.gov.br/arquivos/pdf/ldb.pdf</a:t>
            </a:r>
            <a:r>
              <a:rPr b="0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 Acesso em 11 de maio de 2011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CAED.</a:t>
            </a:r>
            <a:r>
              <a:rPr b="1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 Guia de elaboração de itens. </a:t>
            </a:r>
            <a:r>
              <a:rPr b="0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Juiz de Fora: 2008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Caed. </a:t>
            </a:r>
            <a:r>
              <a:rPr b="1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SPAECE. 2011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INEP. </a:t>
            </a:r>
            <a:r>
              <a:rPr b="1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ANA: </a:t>
            </a:r>
            <a:r>
              <a:rPr b="0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Disponível em </a:t>
            </a:r>
            <a:r>
              <a:rPr b="0" lang="pt-BR" sz="1600" spc="-1" strike="noStrike" u="sng">
                <a:solidFill>
                  <a:srgbClr val="d25814"/>
                </a:solidFill>
                <a:uFillTx/>
                <a:latin typeface="Calibri"/>
                <a:ea typeface="Times New Roman"/>
                <a:hlinkClick r:id="rId2"/>
              </a:rPr>
              <a:t>http://ana.inep.gov.br/ANA/</a:t>
            </a:r>
            <a:r>
              <a:rPr b="0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 acesso em 29/10/2016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INEP. </a:t>
            </a:r>
            <a:r>
              <a:rPr b="1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ANA: Interpretação dos Resultados da ANA</a:t>
            </a:r>
            <a:r>
              <a:rPr b="0" lang="pt-BR" sz="1600" spc="-1" strike="noStrike">
                <a:solidFill>
                  <a:srgbClr val="2f2b20"/>
                </a:solidFill>
                <a:latin typeface="Calibri"/>
                <a:ea typeface="Times New Roman"/>
              </a:rPr>
              <a:t>. Disponível em </a:t>
            </a:r>
            <a:r>
              <a:rPr b="0" lang="pt-BR" sz="1600" spc="-1" strike="noStrike" u="sng">
                <a:solidFill>
                  <a:srgbClr val="d25814"/>
                </a:solidFill>
                <a:uFillTx/>
                <a:latin typeface="Calibri"/>
                <a:ea typeface="Times New Roman"/>
                <a:hlinkClick r:id="rId3"/>
              </a:rPr>
              <a:t>https://www.youtube.com/watch?v=9Qhg_vrH39U&amp;feature=youtu.be</a:t>
            </a:r>
            <a:r>
              <a:rPr b="0" lang="pt-BR" sz="1600" spc="-1" strike="noStrike">
                <a:solidFill>
                  <a:srgbClr val="2f2b20"/>
                </a:solidFill>
                <a:latin typeface="Calibri"/>
              </a:rPr>
              <a:t> Acesso em 29/10/2016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f2b20"/>
                </a:solidFill>
                <a:latin typeface="Calibri"/>
              </a:rPr>
              <a:t>INEP: Avaliação da Alfabetização ANA, 2013. Disponível em </a:t>
            </a:r>
            <a:r>
              <a:rPr b="0" lang="pt-BR" sz="1600" spc="-1" strike="noStrike" u="sng">
                <a:solidFill>
                  <a:srgbClr val="d25814"/>
                </a:solidFill>
                <a:uFillTx/>
                <a:latin typeface="Calibri"/>
                <a:hlinkClick r:id="rId4"/>
              </a:rPr>
              <a:t>http://download.inep.gov.br/educacao_basica/saeb/2013/livreto_ANA_online.pdf</a:t>
            </a:r>
            <a:r>
              <a:rPr b="0" lang="pt-BR" sz="1600" spc="-1" strike="noStrike">
                <a:solidFill>
                  <a:srgbClr val="2f2b20"/>
                </a:solidFill>
                <a:latin typeface="Calibri"/>
              </a:rPr>
              <a:t> Acesso em 29/10/2016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0" y="1676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75e47"/>
                </a:solidFill>
                <a:latin typeface="Cambria"/>
              </a:rPr>
              <a:t>PARA REFLETIR...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9640" y="1773360"/>
            <a:ext cx="6985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AS DIFICULDADES APONTADAS NA ESCALA DE PROFICIÊNCIA (NOS NÍVEIS) SÃO AS MESMAS DETECTADAS EM SALA DE AULA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OS MATERIAIS DIDÁTICOS E PEDAGÓGICOS UTILIZADOS POR VOCÊ EM SALA DE AULA DÃO CONDIÇÕES AOS ALUNOS PARA DESENVOLVER  AS HABILIDADES EXIGIDAS NA ANA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COMO ORGANIZAR O TRABALHO PEDAGÓGICO PARA TRABALHAR COM OS RESULTADOS DA ANA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4"/>
          <p:cNvSpPr/>
          <p:nvPr/>
        </p:nvSpPr>
        <p:spPr>
          <a:xfrm>
            <a:off x="0" y="1676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106" name="Retângulo 3"/>
          <p:cNvSpPr/>
          <p:nvPr/>
        </p:nvSpPr>
        <p:spPr>
          <a:xfrm>
            <a:off x="1258920" y="1197000"/>
            <a:ext cx="66978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601"/>
              </a:spcBef>
              <a:buClr>
                <a:srgbClr val="a9a57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f2b20"/>
                </a:solidFill>
                <a:latin typeface="Times New Roman"/>
              </a:rPr>
              <a:t>Proposição de ações pedagógicas para a superação das dificuldades dos alunos</a:t>
            </a:r>
            <a:endParaRPr b="0" lang="en-US" sz="3200" spc="-1" strike="noStrike">
              <a:solidFill>
                <a:srgbClr val="2f2b2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4"/>
          <p:cNvSpPr/>
          <p:nvPr/>
        </p:nvSpPr>
        <p:spPr>
          <a:xfrm>
            <a:off x="0" y="1676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108" name="Retângulo 2"/>
          <p:cNvSpPr/>
          <p:nvPr/>
        </p:nvSpPr>
        <p:spPr>
          <a:xfrm>
            <a:off x="468360" y="907920"/>
            <a:ext cx="761184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601"/>
              </a:spcBef>
              <a:buClr>
                <a:srgbClr val="a9a57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2b20"/>
                </a:solidFill>
                <a:latin typeface="Times New Roman"/>
              </a:rPr>
              <a:t>Em grupo, leia e discuta as Trajetórias  Hipotéticas de Aprendizagem do EMAI </a:t>
            </a:r>
            <a:r>
              <a:rPr b="0" lang="pt-BR" sz="2400" spc="-1" strike="noStrike">
                <a:solidFill>
                  <a:srgbClr val="2f2b20"/>
                </a:solidFill>
                <a:latin typeface="Times New Roman"/>
              </a:rPr>
              <a:t>(20 min)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9a57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9a57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2b20"/>
                </a:solidFill>
                <a:latin typeface="Times New Roman"/>
              </a:rPr>
              <a:t>As trajetórias descritas no material correspondem às expectativas de aprendizagem do ano?</a:t>
            </a:r>
            <a:endParaRPr b="0" lang="en-US" sz="2800" spc="-1" strike="noStrike">
              <a:solidFill>
                <a:srgbClr val="2f2b2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9a57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9a57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2b20"/>
                </a:solidFill>
                <a:latin typeface="Times New Roman"/>
              </a:rPr>
              <a:t>Tais trajetórias dão condições para desenvolver nos alunos as habilidades exigidas na Matriz de Referência da ANA?</a:t>
            </a:r>
            <a:endParaRPr b="0" lang="en-US" sz="2800" spc="-1" strike="noStrike">
              <a:solidFill>
                <a:srgbClr val="2f2b2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675e47"/>
                </a:solidFill>
                <a:latin typeface="Cambria"/>
              </a:rPr>
              <a:t>SPAECE – CAED – 2011 – P. 15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00000" y="1947960"/>
            <a:ext cx="70725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4"/>
          <p:cNvSpPr/>
          <p:nvPr/>
        </p:nvSpPr>
        <p:spPr>
          <a:xfrm>
            <a:off x="0" y="1676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110" name="Retângulo 2"/>
          <p:cNvSpPr/>
          <p:nvPr/>
        </p:nvSpPr>
        <p:spPr>
          <a:xfrm>
            <a:off x="704880" y="260280"/>
            <a:ext cx="681984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f2b20"/>
                </a:solidFill>
                <a:latin typeface="Times New Roman"/>
              </a:rPr>
              <a:t>Estabelecimento de metas a curto, médio e longo prazo  para  reverter os índices de rendimento dos alunos em matemática: Fazer apontamentos com o coordenador da sua escola,  que serão usados para a elaboração do Plano de Gestão.</a:t>
            </a:r>
            <a:endParaRPr b="0" lang="en-US" sz="3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75e47"/>
                </a:solidFill>
                <a:latin typeface="Cambria"/>
              </a:rPr>
              <a:t>AS PROVAS SÃO COMPOSTAS POR ITENS </a:t>
            </a:r>
            <a:br>
              <a:rPr sz="2400"/>
            </a:br>
            <a:r>
              <a:rPr b="0" lang="pt-BR" sz="1800" spc="-1" strike="noStrike">
                <a:solidFill>
                  <a:srgbClr val="675e47"/>
                </a:solidFill>
                <a:latin typeface="Cambria"/>
              </a:rPr>
              <a:t>(CAED, 2008, P. 19)</a:t>
            </a:r>
            <a:endParaRPr b="0" lang="en-US" sz="18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88693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75e47"/>
                </a:solidFill>
                <a:latin typeface="Cambria"/>
              </a:rPr>
              <a:t>AVALIAÇÃO NACIONAL DA ALFABETIZAÇÃO - AN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571760"/>
            <a:ext cx="784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2b20"/>
                </a:solidFill>
                <a:latin typeface="Calibri"/>
              </a:rPr>
              <a:t>DIREITOS DE APRENDIZAGE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14200" y="2571840"/>
            <a:ext cx="862200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75e47"/>
                </a:solidFill>
                <a:latin typeface="Cambria"/>
              </a:rPr>
              <a:t>AVALIAÇÃO NACIONAL DA ALFABETIZAÇÃO - ANA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472240" cy="1859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28760" y="3286080"/>
            <a:ext cx="84675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675e47"/>
                </a:solidFill>
                <a:latin typeface="Cambria"/>
              </a:rPr>
              <a:t>A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638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f2b20"/>
                </a:solidFill>
                <a:latin typeface="Calibri"/>
              </a:rPr>
              <a:t>Objetivo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72880" indent="-272880" algn="just">
              <a:spcBef>
                <a:spcPts val="1800"/>
              </a:spcBef>
              <a:buClr>
                <a:srgbClr val="a9a57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2f2b20"/>
                </a:solidFill>
                <a:latin typeface="Calibri"/>
              </a:rPr>
              <a:t>Avaliar o nível de alfabetização dos educandos no 3º ano do ensino fundamental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72880" indent="-272880" algn="just">
              <a:spcBef>
                <a:spcPts val="1800"/>
              </a:spcBef>
              <a:buClr>
                <a:srgbClr val="a9a57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2f2b20"/>
                </a:solidFill>
                <a:latin typeface="Calibri"/>
              </a:rPr>
              <a:t>Produzir indicadores sobre as condições de oferta de ensino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72880" indent="-272880" algn="just">
              <a:spcBef>
                <a:spcPts val="1800"/>
              </a:spcBef>
              <a:buClr>
                <a:srgbClr val="a9a57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2f2b20"/>
                </a:solidFill>
                <a:latin typeface="Calibri"/>
              </a:rPr>
              <a:t>Concorrer para a melhoria da qualidade do ensino e redução das desigualdades, em consonância com as metas e políticas estabelecidas pelas diretrizes da educação nacional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72880" indent="-272880" algn="just">
              <a:spcBef>
                <a:spcPts val="1800"/>
              </a:spcBef>
              <a:buClr>
                <a:srgbClr val="a9a57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72880" indent="-2728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A ANA é censitária, portanto, será aplicada a todos os alunos matriculados no 3º ano do Ensino Fundamental. No caso de escolas multisseriadas, será aplicada a uma amostra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-306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75e47"/>
                </a:solidFill>
                <a:latin typeface="Cambria"/>
              </a:rPr>
              <a:t>Matriz de Referência – ANA</a:t>
            </a:r>
            <a:br>
              <a:rPr sz="4000"/>
            </a:br>
            <a:r>
              <a:rPr b="0" lang="pt-BR" sz="1600" spc="-1" strike="noStrike">
                <a:solidFill>
                  <a:srgbClr val="675e47"/>
                </a:solidFill>
                <a:latin typeface="Cambria"/>
              </a:rPr>
              <a:t>http://download.inep.gov.br/educacao_basica/saeb/2013/livreto_ANA_online.pdf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70000" y="1249200"/>
            <a:ext cx="637704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75e47"/>
                </a:solidFill>
                <a:latin typeface="Cambria"/>
              </a:rPr>
              <a:t>Matriz de Referência – ANA</a:t>
            </a:r>
            <a:br>
              <a:rPr sz="4000"/>
            </a:br>
            <a:r>
              <a:rPr b="0" lang="pt-BR" sz="1600" spc="-1" strike="noStrike">
                <a:solidFill>
                  <a:srgbClr val="675e47"/>
                </a:solidFill>
                <a:latin typeface="Cambria"/>
              </a:rPr>
              <a:t>http://download.inep.gov.br/educacao_basica/saeb/2013/livreto_ANA_online.pdf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38360" y="1755720"/>
            <a:ext cx="714348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22:16:00Z</dcterms:created>
  <dc:creator>UNESP</dc:creator>
  <dc:description/>
  <dc:language>en-US</dc:language>
  <cp:lastModifiedBy>Lucilene</cp:lastModifiedBy>
  <dcterms:modified xsi:type="dcterms:W3CDTF">2016-12-01T17:13:31Z</dcterms:modified>
  <cp:revision>169</cp:revision>
  <dc:subject/>
  <dc:title>Apresentação do PowerPoint</dc:title>
</cp:coreProperties>
</file>